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576-C0F4-4D0C-9443-3BCF130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186-D133-46C4-841B-50BC71F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C69-1959-4C7C-AB16-8E03A0EA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F09-C32E-47D5-882A-834D50D3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CC8-F5A4-4736-876E-6A06D46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FFA-1CCE-46FE-9E05-1E57C70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217-A4B2-4A01-9789-38DB19B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046-F5F0-4902-8F99-3A3CDC3C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BC0-2C7D-40C5-80A4-925F2FC8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F38-9040-4981-871F-31A41C4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381-C3CE-43F0-BCB3-90C8E9B0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109-FC62-4C68-B316-E4256BA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6E25-8FE8-4D80-8574-ED51C9D84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k i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 brand of paper towel can hold the most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Bounty will hold the most water, because it is the most popular 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different brands of paper tow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bea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,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1 brand of paper towel place in 200ml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with out dripping and squeeze into the second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until all 5 brands are tested four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external image SamanthaPgraph2.gif"/>
          <p:cNvPicPr/>
          <p:nvPr/>
        </p:nvPicPr>
        <p:blipFill>
          <a:blip r:embed="rId1"/>
          <a:stretch/>
        </p:blipFill>
        <p:spPr>
          <a:xfrm>
            <a:off x="0" y="1905120"/>
            <a:ext cx="426708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xternal image SamanthaPgraph1.gif"/>
          <p:cNvPicPr/>
          <p:nvPr/>
        </p:nvPicPr>
        <p:blipFill>
          <a:blip r:embed="rId2"/>
          <a:stretch/>
        </p:blipFill>
        <p:spPr>
          <a:xfrm>
            <a:off x="4419720" y="1905120"/>
            <a:ext cx="44672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40:06Z</dcterms:created>
  <dc:creator>STERLING  USD376</dc:creator>
  <dc:description/>
  <dc:language>en-US</dc:language>
  <cp:lastModifiedBy>USD376</cp:lastModifiedBy>
  <dcterms:modified xsi:type="dcterms:W3CDTF">2010-02-11T16:44:30Z</dcterms:modified>
  <cp:revision>5</cp:revision>
  <dc:subject/>
  <dc:title>Soak it up</dc:title>
</cp:coreProperties>
</file>